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6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02D4-523F-49E1-8A81-4DE1234DB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search.yahoo.com/search/images/view?back=http%3A%2F%2Fimages.search.yahoo.com%2Fsearch%2Fimages%3Fp%3Dabdomen%2Bquadrant%26ei%3DUTF-8%26fr%3Dslv8-hptb6%26x%3Dwrt%26js%3D1%26ni%3D18&amp;w=400&amp;h=320&amp;imgurl=www.pitt.edu%2F%7Eanat%2FAbdomen%2FAbdomen%2Fac00076.jpg&amp;rurl=http%3A%2F%2Fwww.pitt.edu%2F%7Eanat%2FAbdomen%2FAbdomen%2FAbd.htm&amp;size=27.6kB&amp;name=ac00076.jpg&amp;p=abdomen+quadrant&amp;type=jpeg&amp;no=14&amp;tt=93&amp;oid=f1eea6e09981d1c4&amp;ei=UTF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93E-17EB-49DD-91A9-DDF51E5A3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326-D0CE-412B-8605-D8263E85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E11-6787-401E-8FEE-87BF3DDD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2E4-A8D7-444A-99C3-0352E7D2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003-490C-4772-B77B-88972409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6B8C-8C4F-484B-9572-B48DC85C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18C5-B7C5-4024-8259-AA8B1F78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8F3E-9560-4DB6-B768-CAE979A7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64E2-503F-43A0-8727-77B4E267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B0D8-28CB-4851-A761-583C6A91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933E-F849-4B75-8762-E91713E5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5F9D-CB15-46AA-9AD1-2FA1FD1D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7F9-E451-45A3-B0F2-8522B561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1CEB-AD47-4A32-9822-5AF4885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2B8D-CDCC-4809-8CC5-3034CDE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F706-4B52-4000-80AD-87EB9130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DCD7-33E7-46F0-8D69-6C499B2E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2325-E7F9-4518-8364-3ED53A7F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9D08-9454-440F-8E48-36B68041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82C7-C50D-4DEC-991F-DD55285C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862E-2486-43EF-9B78-61BEA1D6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917E-7D63-4B65-8E53-5412F2A3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FDEF-98BE-41A7-9D79-72CDD64B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4BE0-E8B9-4AE0-80B2-D229FDD7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D574-E9B7-4CF9-B0C0-1168C2F2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9148-7F46-42EE-9445-D538EF9E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BD814-E77C-45B1-B204-D7B8108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8F4D7-6930-42FD-90BA-02F84D3A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4590-012F-4F96-B67F-94CBA7D8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65F7-ADBE-466A-9981-45621524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5096-E6ED-4AE3-B417-5C759A0E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3675-8A1C-4940-B22A-2E91401B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5A84-6CD1-49BD-A1B2-62DDEEC7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84D0-3F77-4A3B-91FD-24603B40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6CF-DE82-4EF0-9A30-28176D89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8489-AFD3-4F14-B394-D9D75C4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C0FF-5B0F-4342-9FC2-66399399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132B7-F8D2-4887-8894-9EAD7C30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4A6D-BEAB-4378-A899-21901BC5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06B4-06D6-4114-8301-2444248F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6CE3E-2A72-48E7-9C86-2A7CF891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E1560-AA5D-4D3B-9B84-18736F05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68D21-C179-4927-B50C-220D8EF5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8F17-7AA7-46C7-99BC-D2D63C2C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4C9-DE35-4F71-B85C-2F1AEB6C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BE3-5B67-4DC5-AE2B-22815CDE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B25-77F6-469E-B4D5-D141C897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91C-59A1-4613-AA71-8D94B64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FF4-658F-4C2D-88AF-C7738199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FAEE-E25D-4805-8F1E-7EC1FCB72A1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FF4C-57FF-42A1-A9DB-705FE0C509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455-966E-40EE-BB70-5985A0B05D6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3F2C-BB97-48BB-BF40-3FFF921930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hannon Armbrust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Jen H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ana Forador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obia Raj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Transvaginal Sono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60020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Type of pelvic ultrasound in which probe is inserted into vag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Used to identify source of pelvic pain, infertility, abnormal blee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Creates images of vagina, cervix, uterus, fallopian tubes, and ova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b5395"/>
                </a:solidFill>
                <a:latin typeface="Constantia"/>
              </a:rPr>
              <a:t>A transvaginal sonogram showed an empty uterus with free fluid in the “cul-de’sac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6" descr="Transvaginal ultrasound"/>
          <p:cNvPicPr/>
          <p:nvPr/>
        </p:nvPicPr>
        <p:blipFill>
          <a:blip r:embed="rId2"/>
          <a:stretch/>
        </p:blipFill>
        <p:spPr>
          <a:xfrm>
            <a:off x="5638680" y="1600200"/>
            <a:ext cx="3197520" cy="3063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30495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lvic Inflammatory Dise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Infection of uterus or fallopian tubes due to bacteria entering through vagi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-Gonorrhea and Chlamydia greatly increase ris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-Increases risk of ectopic pregnancy and infert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Symptoms: pelvic pain, irregular vaginal bleeding, fever, abnormal dischar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-Diagnosis: painful palpation, enlargement of structures on ultrasou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rian Canc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57200" y="19810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6a3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6a3"/>
                </a:solidFill>
                <a:latin typeface="Constantia"/>
              </a:rPr>
              <a:t>Symptoms: pressure or pain in the abdomen, pelvis, back, or legs, a swollen or bloated abdomen, nausea, indigestion, diarrhea, feeling very tired all the 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76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76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6a3"/>
                </a:solidFill>
                <a:latin typeface="Constantia"/>
              </a:rPr>
              <a:t>Symptoms usually do not present until cancer has advanc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76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76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6a3"/>
                </a:solidFill>
                <a:latin typeface="Constantia"/>
              </a:rPr>
              <a:t>Appears in ultrasound, biopsy may confirm diagn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76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6a3"/>
                </a:solidFill>
                <a:latin typeface="Constantia"/>
              </a:rPr>
              <a:t>Antigen 125 (CA-125) in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dometrio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240" y="1523880"/>
            <a:ext cx="84582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Retrograde menstruation: shedding endometrium flows backward through fallopian tubes and into peritoneal ca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May implant on any mucous membrane in cavity, most likely in the rectouterine pou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Deposited tissue responds to estrogen, progesterone, LH, and FSH in the same way as the endometri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dometrio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Symptoms include pelvic pain, dysmenorrhea, infertility, painful intercourse, abnormal menstrual bleeding, chronic fatigue, cyclical bowel or bladder symp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Most common tenderness is upon palpation of posterior forni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Text Placeholder 29" descr=""/>
          <p:cNvPicPr/>
          <p:nvPr/>
        </p:nvPicPr>
        <p:blipFill>
          <a:blip r:embed="rId2"/>
          <a:stretch/>
        </p:blipFill>
        <p:spPr>
          <a:xfrm>
            <a:off x="4618080" y="1600200"/>
            <a:ext cx="4525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rian Cy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aaf2"/>
                </a:solidFill>
                <a:latin typeface="Constantia"/>
              </a:rPr>
              <a:t>Very common but may cause pelvic pain if they exceed 2 centimeters in diameter (may be detected by ultrasound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aaf2"/>
                </a:solidFill>
                <a:latin typeface="Constantia"/>
              </a:rPr>
              <a:t>Several types of cysts, type can only be determined by histological technique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aaf2"/>
                </a:solidFill>
                <a:latin typeface="Constantia"/>
              </a:rPr>
              <a:t>Follicular cysts are most common.  They are caused by a follicle that did not rupture during ovulation.  These generally degenerate in a few days or month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aaf2"/>
                </a:solidFill>
                <a:latin typeface="Constantia"/>
              </a:rPr>
              <a:t>Granulosa luteal cysts form from the corpus luteum and therefore do not hold an egg.  They are normal in the ovary but may rupture and cause peritoneal  irritatio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aaf2"/>
                </a:solidFill>
                <a:latin typeface="Constantia"/>
              </a:rPr>
              <a:t>Laparoscopy is most effective diagnostic procedur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Text Placeholder 29" descr=""/>
          <p:cNvPicPr/>
          <p:nvPr/>
        </p:nvPicPr>
        <p:blipFill>
          <a:blip r:embed="rId2"/>
          <a:stretch/>
        </p:blipFill>
        <p:spPr>
          <a:xfrm>
            <a:off x="4724280" y="2101680"/>
            <a:ext cx="42674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rian Cy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0520" y="1676160"/>
            <a:ext cx="480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Symptoms: onset of unilateral lower abdominal pain, light vaginal bleeding (spotting), possible pressure on rectum or bladder, possible nausea and vomi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Vaginal bleeding may be caused by elevated estrogen produced by persistent theca cells.  This causes endometrial abnormal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Illustration of follicular ovarian cyst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ldocente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208728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c6f7"/>
                </a:solidFill>
                <a:latin typeface="Constantia"/>
              </a:rPr>
              <a:t>Sampling of ascites in cul-de-sac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c6f7"/>
                </a:solidFill>
                <a:latin typeface="Constantia"/>
              </a:rPr>
              <a:t>Use aspir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c6f7"/>
                </a:solidFill>
                <a:latin typeface="Constantia"/>
              </a:rPr>
              <a:t>Needle pierces the posterior fornix of the vagina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c6f7"/>
                </a:solidFill>
                <a:latin typeface="Constantia"/>
              </a:rPr>
              <a:t>Ultrasound generally preferred over culdocentesis due to risk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c6f7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91c6f7"/>
                </a:solidFill>
                <a:latin typeface="Constantia"/>
              </a:rPr>
              <a:t>-bowl perfor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c6f7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91c6f7"/>
                </a:solidFill>
                <a:latin typeface="Constantia"/>
              </a:rPr>
              <a:t>-trauma to pelvic cav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c6f7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91c6f7"/>
                </a:solidFill>
                <a:latin typeface="Constantia"/>
              </a:rPr>
              <a:t>-infection from vagina transmitted to peritoneal cav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Text Placeholder 29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7242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l-de Sa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so called Rectouterine Pouch and Pouch of Dougl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west point of peritoneal cavity when st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cess fluid (ascites) accumulates here, indicative of abnormality within peritoneal ca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2" descr="http://www.med.mun.ca/anatomyts/repro/repro5.gif"/>
          <p:cNvPicPr/>
          <p:nvPr/>
        </p:nvPicPr>
        <p:blipFill>
          <a:blip r:embed="rId2"/>
          <a:stretch/>
        </p:blipFill>
        <p:spPr>
          <a:xfrm>
            <a:off x="5105520" y="362736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://www.endo-clinic.co.uk/images/photo/endo%20figure.gif"/>
          <p:cNvPicPr/>
          <p:nvPr/>
        </p:nvPicPr>
        <p:blipFill>
          <a:blip r:embed="rId3"/>
          <a:stretch/>
        </p:blipFill>
        <p:spPr>
          <a:xfrm>
            <a:off x="228600" y="3581280"/>
            <a:ext cx="47624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paroscop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Small scope inserted through a 2-centimeter incision below umbilicus, inert gas pumped into pneumoperitoneum, and pelvis is elevated so that intestines slide toward head, insert laparosc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May be used to view and take pictures of fluid accumulation, scar tissue, adhes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ief Complai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6 y.o. F came into the OB/Gyn with complaint of vaginal spotting and lower abdominal pai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MH – previous pregnancy w/o incident and pelvic infection 3 years prior to pregnancy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CC- no significant vaginal discharge (other than spotting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trau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recent intercour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e Suppl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cites causes pressure on and irritation to the parietal peritone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itoneum around Cul-de-Sac is innervated by visceral afferent nerves of the uterovaginal plexus, a division of the inferior hypogastric plex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arian Plexus is sympathetic innervation to the ovary and fundus of the uterus.  It comes from the renal plex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cite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Depending on the results of the laparoscopy, the type of fluid can be determin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Fluid from a ruptured cyst would be serous or muc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Fluid caused by hemorrhage from surrounding vessels would be blo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rterial/Venous/Lymphatics to Uteru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Uteru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Arterial: common illiac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internal iliac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anterior internal iliac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59aaf2"/>
                </a:solidFill>
                <a:latin typeface="Constantia"/>
              </a:rPr>
              <a:t>uterine arteries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 (and some collateral supply from ovarian arteri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Venous:</a:t>
            </a:r>
            <a:r>
              <a:rPr b="1" lang="en-US" sz="2000" spc="-1" strike="noStrike">
                <a:solidFill>
                  <a:srgbClr val="59aaf2"/>
                </a:solidFill>
                <a:latin typeface="Constantia"/>
              </a:rPr>
              <a:t> uterine venous plexus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59aaf2"/>
                </a:solidFill>
                <a:latin typeface="Constantia"/>
              </a:rPr>
              <a:t>uterine vein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59aaf2"/>
                </a:solidFill>
                <a:latin typeface="Constantia"/>
              </a:rPr>
              <a:t>internal iliac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59aaf2"/>
                </a:solidFill>
                <a:latin typeface="Constantia"/>
              </a:rPr>
              <a:t>common iliac ve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Lymphatics: 3 main ro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Fundus and superior uterine body </a:t>
            </a:r>
            <a:r>
              <a:rPr b="0" lang="en-US" sz="18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59aaf2"/>
                </a:solidFill>
                <a:latin typeface="Constantia"/>
              </a:rPr>
              <a:t>lumbar lymph nodes </a:t>
            </a:r>
            <a:r>
              <a:rPr b="0" lang="en-US" sz="18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lumbar lymph trunks</a:t>
            </a:r>
            <a:r>
              <a:rPr b="0" lang="en-US" sz="18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chyle cistern</a:t>
            </a:r>
            <a:r>
              <a:rPr b="0" lang="en-US" sz="18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thoracic duc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aaf2"/>
                </a:solidFill>
                <a:latin typeface="Constantia"/>
              </a:rPr>
              <a:t>Fundus near uterine tube entrance </a:t>
            </a:r>
            <a:r>
              <a:rPr b="0" lang="en-US" sz="16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9aaf2"/>
                </a:solidFill>
                <a:latin typeface="Constantia"/>
              </a:rPr>
              <a:t> superficial inguinal lymph nod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Uterine body </a:t>
            </a:r>
            <a:r>
              <a:rPr b="0" lang="en-US" sz="18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 external iliac lymph nod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Uterine cervix </a:t>
            </a:r>
            <a:r>
              <a:rPr b="0" lang="en-US" sz="18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 Internal iliac lymph nodes/sacral lymph nod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ext Placeholder 29" descr=""/>
          <p:cNvPicPr/>
          <p:nvPr/>
        </p:nvPicPr>
        <p:blipFill>
          <a:blip r:embed="rId2"/>
          <a:stretch/>
        </p:blipFill>
        <p:spPr>
          <a:xfrm>
            <a:off x="1981080" y="0"/>
            <a:ext cx="539748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0102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800600" y="0"/>
            <a:ext cx="1295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990720"/>
            <a:ext cx="1447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21337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35268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304920"/>
            <a:ext cx="15264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3200400"/>
            <a:ext cx="99072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139 C 0.00017 0.0322 0.00104 0.06093 0.00712 0.07785 C 0.0092 0.08341 0.01215 0.08874 0.01406 0.0943 C 0.01684 0.10241 0.01736 0.10889 0.02083 0.11631 C 0.02222 0.12558 0.02517 0.13392 0.02917 0.1418 C 0.03108 0.15245 0.03229 0.15593 0.03733 0.16566 C 0.03819 0.16751 0.03924 0.16914 0.0401 0.17099 C 0.04097 0.17284 0.04288 0.17655 0.04288 0.17655 C 0.04566 0.18952 0.05486 0.21107 0.06337 0.21872 C 0.07101 0.23331 0.06684 0.24027 0.06875 0.26251 C 0.06944 0.26992 0.07153 0.27711 0.07292 0.28452 C 0.07639 0.30282 0.07813 0.32113 0.08247 0.3392 C 0.08785 0.36144 0.08733 0.38531 0.09757 0.40477 C 0.10174 0.43257 0.10538 0.46501 0.09358 0.48911 C 0.09271 0.49652 0.09132 0.51807 0.08802 0.52757 C 0.08524 0.53545 0.08073 0.54217 0.07708 0.54958 C 0.07604 0.55167 0.07344 0.55074 0.07153 0.55143 C 0.06042 0.55584 0.07743 0.55213 0.05243 0.55491 C 0.04965 0.55607 0.04688 0.55746 0.0441 0.55862 C 0.04271 0.55931 0.0401 0.56047 0.0401 0.56047 C 0.03924 0.56024 0.02413 0.55769 0.02083 0.55329 C 0.01944 0.55143 0.01962 0.54773 0.01823 0.54587 C 0.01181 0.53707 0.01267 0.5468 0.01267 0.53846 E">
                                      <p:cBhvr>
                                        <p:cTn id="26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ext Placeholder 29" descr=""/>
          <p:cNvPicPr/>
          <p:nvPr/>
        </p:nvPicPr>
        <p:blipFill>
          <a:blip r:embed="rId2"/>
          <a:stretch/>
        </p:blipFill>
        <p:spPr>
          <a:xfrm>
            <a:off x="0" y="1432080"/>
            <a:ext cx="91440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0" name="Text Placeholder 29" descr=""/>
          <p:cNvPicPr/>
          <p:nvPr/>
        </p:nvPicPr>
        <p:blipFill>
          <a:blip r:embed="rId3"/>
          <a:stretch/>
        </p:blipFill>
        <p:spPr>
          <a:xfrm>
            <a:off x="990720" y="0"/>
            <a:ext cx="4419360" cy="4213080"/>
          </a:xfrm>
          <a:prstGeom prst="rect">
            <a:avLst/>
          </a:prstGeom>
          <a:ln w="0">
            <a:noFill/>
          </a:ln>
        </p:spPr>
      </p:pic>
      <p:pic>
        <p:nvPicPr>
          <p:cNvPr id="271" name="Text Placeholder 29" descr=""/>
          <p:cNvPicPr/>
          <p:nvPr/>
        </p:nvPicPr>
        <p:blipFill>
          <a:blip r:embed="rId4"/>
          <a:stretch/>
        </p:blipFill>
        <p:spPr>
          <a:xfrm>
            <a:off x="2590920" y="3886200"/>
            <a:ext cx="4724280" cy="28018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419720" y="5105520"/>
            <a:ext cx="152280" cy="1522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23262E-006 C -0.00451 0.01205 -0.00677 0.02456 -0.01094 0.0366 C -0.01181 0.05352 -0.01163 0.0709 -0.01371 0.08781 C -0.01545 0.10241 -0.03333 0.10635 -0.04115 0.10797 C -0.04392 0.10913 -0.04653 0.11028 -0.04931 0.11144 C -0.05069 0.11214 -0.05347 0.1133 -0.05347 0.1133 C -0.05903 0.11214 -0.06476 0.11214 -0.06996 0.10982 C -0.07309 0.10843 -0.07812 0.10241 -0.07812 0.10241 C -0.08559 0.08758 -0.07587 0.10542 -0.08507 0.09314 C -0.0901 0.08642 -0.09358 0.07205 -0.10139 0.06951 C -0.10729 0.06742 -0.11337 0.06696 -0.11927 0.0658 C -0.1217 0.06348 -0.125 0.06279 -0.12743 0.06024 C -0.12917 0.05815 -0.13003 0.05514 -0.1316 0.05306 C -0.13281 0.0512 -0.1342 0.05051 -0.13559 0.04935 C -0.13941 0.03939 -0.1401 0.0424 -0.1467 0.0366 C -0.15156 0.0227 -0.16181 0.01112 -0.16996 -1.23262E-006 C -0.17135 -0.00186 -0.17257 -0.00371 -0.17396 -0.0058 C -0.17535 -0.00742 -0.17812 -0.01089 -0.17812 -0.01089 C -0.18142 -0.02387 -0.19028 -0.03985 -0.19601 -0.05121 C -0.20156 -0.0621 -0.20503 -0.09152 -0.20694 -0.10427 C -0.20573 -0.12373 -0.20434 -0.14157 -0.20139 -0.1608 C -0.20052 -0.16636 -0.19878 -0.17169 -0.1974 -0.17725 C -0.19687 -0.1791 -0.19601 -0.18281 -0.19601 -0.18281 C -0.19479 -0.20946 -0.18733 -0.2551 -0.20694 -0.27271 C -0.21858 -0.29495 -0.21233 -0.2887 -0.21094 -0.33457 C -0.21059 -0.34616 -0.21024 -0.35774 -0.20972 -0.36933 C -0.20851 -0.3962 -0.20851 -0.43791 -0.18906 -0.45529 C -0.18767 -0.4576 -0.18681 -0.46038 -0.18507 -0.46247 C -0.18264 -0.46548 -0.17674 -0.46988 -0.17674 -0.46988 C -0.17465 -0.481 -0.17083 -0.49004 -0.1658 -0.49908 C -0.16233 -0.51228 -0.16371 -0.50626 -0.16163 -0.51738 C -0.1625 -0.538 -0.16233 -0.55885 -0.16441 -0.57947 C -0.1651 -0.58666 -0.17674 -0.59407 -0.17674 -0.59407 C -0.17969 -0.60172 -0.1783 -0.60125 -0.18368 -0.60519 C -0.18733 -0.60774 -0.19462 -0.61238 -0.19462 -0.61238 C -0.20087 -0.62512 -0.20851 -0.63531 -0.21371 -0.64898 C -0.21701 -0.73378 -0.21649 -0.69532 -0.21649 -0.76414 E">
                                      <p:cBhvr>
                                        <p:cTn id="38" dur="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rterial/Venous/Lymphatics to Uteru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3818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aaf2"/>
                </a:solidFill>
                <a:latin typeface="Constantia"/>
              </a:rPr>
              <a:t>Uteru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Arterial: common illiac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internal iliac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anterior internal iliac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59aaf2"/>
                </a:solidFill>
                <a:latin typeface="Constantia"/>
              </a:rPr>
              <a:t>uterine arteries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 (and some collateral supply from ovarian arteri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Venous:</a:t>
            </a:r>
            <a:r>
              <a:rPr b="1" lang="en-US" sz="2400" spc="-1" strike="noStrike">
                <a:solidFill>
                  <a:srgbClr val="59aaf2"/>
                </a:solidFill>
                <a:latin typeface="Constantia"/>
              </a:rPr>
              <a:t> uterine venous plexus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59aaf2"/>
                </a:solidFill>
                <a:latin typeface="Constantia"/>
              </a:rPr>
              <a:t>uterine vein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59aaf2"/>
                </a:solidFill>
                <a:latin typeface="Constantia"/>
              </a:rPr>
              <a:t>internal iliac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59aaf2"/>
                </a:solidFill>
                <a:latin typeface="Constantia"/>
              </a:rPr>
              <a:t>common iliac ve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Lymphatics: 3 main ro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Fundus and superior uterine body 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59aaf2"/>
                </a:solidFill>
                <a:latin typeface="Constantia"/>
              </a:rPr>
              <a:t>lumbar lymph nodes 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lumbar lymph trunks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chyle cistern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thoracic duc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Fundus near uterine tube entrance </a:t>
            </a:r>
            <a:r>
              <a:rPr b="0" lang="en-US" sz="18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 superficial inguinal lymph nod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Uterine body 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 external iliac lymph nod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Uterine cervix 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 Internal iliac lymph nodes/sacral lymph nod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ext Placeholder 29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670572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51055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erine Bo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8580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ext Placeholder 29" descr=""/>
          <p:cNvPicPr/>
          <p:nvPr/>
        </p:nvPicPr>
        <p:blipFill>
          <a:blip r:embed="rId2"/>
          <a:stretch/>
        </p:blipFill>
        <p:spPr>
          <a:xfrm>
            <a:off x="914400" y="109440"/>
            <a:ext cx="7391520" cy="674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572000" y="5334120"/>
            <a:ext cx="228600" cy="152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C 0.00191 -0.00764 0.00416 -0.01482 0.00625 -0.02223 C 0.00955 -0.03426 0.01007 -0.04514 0.01875 -0.05278 C 0.01944 -0.05417 0.01996 -0.05579 0.02083 -0.05695 C 0.02205 -0.05857 0.02378 -0.05926 0.025 -0.06111 C 0.02899 -0.06736 0.0309 -0.07639 0.03437 -0.08334 C 0.03819 -0.10348 0.03455 -0.12361 0.02187 -0.13611 C 0.01996 -0.1463 0.01753 -0.15648 0.01562 -0.16667 C 0.01458 -0.18102 0.01614 -0.19815 0.00625 -0.20695 C 0.00069 -0.22176 0.00833 -0.20417 3.33333E-006 -0.21528 C -0.00434 -0.22107 -0.00764 -0.23565 -0.01042 -0.24306 C -0.01476 -0.27523 -0.01198 -0.30741 -0.01875 -0.33889 C -0.02014 -0.39537 -0.02639 -0.45695 -0.01459 -0.5125 C -0.01025 -0.53287 -0.00226 -0.55417 0.00416 -0.57361 C 0.0059 -0.57894 0.00642 -0.58635 0.00833 -0.59167 C 0.00937 -0.59468 0.0125 -0.6 0.0125 -0.6 C 0.01423 -0.61135 0.01632 -0.62246 0.02396 -0.62917 C 0.0243 -0.63102 0.02448 -0.63287 0.025 -0.63473 C 0.02552 -0.63635 0.02708 -0.63889 0.02708 -0.63889 E">
                                      <p:cBhvr>
                                        <p:cTn id="44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ext Placeholder 29" descr=""/>
          <p:cNvPicPr/>
          <p:nvPr/>
        </p:nvPicPr>
        <p:blipFill>
          <a:blip r:embed="rId2"/>
          <a:stretch/>
        </p:blipFill>
        <p:spPr>
          <a:xfrm>
            <a:off x="3657600" y="3146400"/>
            <a:ext cx="5486400" cy="32544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llopian tub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aaf2"/>
                </a:solidFill>
                <a:latin typeface="Constantia"/>
              </a:rPr>
              <a:t>Arterial: uterine and ovarian arteries </a:t>
            </a:r>
            <a:r>
              <a:rPr b="0" lang="en-US" sz="22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59aaf2"/>
                </a:solidFill>
                <a:latin typeface="Constantia"/>
              </a:rPr>
              <a:t> anastomosing terminal branches </a:t>
            </a:r>
            <a:r>
              <a:rPr b="0" lang="en-US" sz="22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59aaf2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59aaf2"/>
                </a:solidFill>
                <a:latin typeface="Constantia"/>
              </a:rPr>
              <a:t>tubal branch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aaf2"/>
                </a:solidFill>
                <a:latin typeface="Constantia"/>
              </a:rPr>
              <a:t>Venous: </a:t>
            </a:r>
            <a:r>
              <a:rPr b="1" lang="en-US" sz="2200" spc="-1" strike="noStrike">
                <a:solidFill>
                  <a:srgbClr val="59aaf2"/>
                </a:solidFill>
                <a:latin typeface="Constantia"/>
              </a:rPr>
              <a:t>tubal veins</a:t>
            </a:r>
            <a:r>
              <a:rPr b="0" lang="en-US" sz="2200" spc="-1" strike="noStrike">
                <a:solidFill>
                  <a:srgbClr val="59aaf2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59aaf2"/>
                </a:solidFill>
                <a:latin typeface="Constantia"/>
              </a:rPr>
              <a:t> uterine venous plexus/ovarian vei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aaf2"/>
                </a:solidFill>
                <a:latin typeface="Constantia"/>
              </a:rPr>
              <a:t>Lymphatics: lumbar lymph nod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hysical Ex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tal sign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P – 90/6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lse – 1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hythm – Reg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eprature - 98.6°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piratory rate – 1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ight – 5’3’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ight – 125 lb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ext Placeholder 29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5334120" cy="31622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r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Arterial: ovarian artery 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enter suspensory ligament 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 branches through mesovarium to ov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Veinous: ovarian veins 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59aaf2"/>
                </a:solidFill>
                <a:latin typeface="Constantia"/>
              </a:rPr>
              <a:t>pampniform plexus of veins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59aaf2"/>
                </a:solidFill>
                <a:latin typeface="Constantia"/>
              </a:rPr>
              <a:t>ovarian ve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Right ovarian vein 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59aaf2"/>
                </a:solidFill>
                <a:latin typeface="Constantia"/>
              </a:rPr>
              <a:t>IV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Left ovarian vein 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59aaf2"/>
                </a:solidFill>
                <a:latin typeface="Constantia"/>
              </a:rPr>
              <a:t>left renal vein</a:t>
            </a:r>
            <a:r>
              <a:rPr b="0" lang="en-US" sz="20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9aaf2"/>
                </a:solidFill>
                <a:latin typeface="Constantia"/>
              </a:rPr>
              <a:t> IV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Lymphatics: follow ovarian blood supply (of uterine tubes &amp; fundus of uterus) </a:t>
            </a:r>
            <a:r>
              <a:rPr b="0" lang="en-US" sz="2400" spc="-1" strike="noStrike">
                <a:solidFill>
                  <a:srgbClr val="59aaf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 lumbar lymph no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EENT Ex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ungs/CV/Abdominal /Musculoskeletal/Neurologic exam were normal except fo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ate tenderness in the right lower quadrant of the abdomen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vaginal sonogram showed an empty uterus with free fluid in the “cul-de-sac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066320"/>
            <a:ext cx="2666880" cy="5410440"/>
          </a:xfrm>
          <a:prstGeom prst="rect">
            <a:avLst/>
          </a:prstGeom>
          <a:noFill/>
          <a:ln w="9360">
            <a:solidFill>
              <a:srgbClr val="7e963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Cecu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Appendix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Right ova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Right Fallopian Tub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Right ur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124520" cy="4143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124080" y="4038480"/>
            <a:ext cx="1905120" cy="533520"/>
          </a:xfrm>
          <a:prstGeom prst="rightArrow">
            <a:avLst>
              <a:gd name="adj1" fmla="val 50000"/>
              <a:gd name="adj2" fmla="val 89271"/>
            </a:avLst>
          </a:prstGeom>
          <a:solidFill>
            <a:srgbClr val="dbf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4343400" cy="6049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RIGHT LOWER QUADRANT (RLQ) </a:t>
            </a:r>
            <a:br>
              <a:rPr sz="2000"/>
            </a:b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Cecum </a:t>
            </a:r>
            <a:br>
              <a:rPr sz="2000"/>
            </a:b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Appendix </a:t>
            </a:r>
            <a:br>
              <a:rPr sz="2000"/>
            </a:b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Right ovary and tube</a:t>
            </a:r>
            <a:br>
              <a:rPr sz="2000"/>
            </a:br>
            <a:r>
              <a:rPr b="1" lang="en-US" sz="2000" spc="-1" strike="noStrike">
                <a:solidFill>
                  <a:srgbClr val="0b5395"/>
                </a:solidFill>
                <a:latin typeface="Constantia"/>
              </a:rPr>
              <a:t>Right ureter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59aaf2"/>
                </a:solidFill>
                <a:latin typeface="Constantia"/>
              </a:rPr>
              <a:t>LEFT LOWER QUADRANT (LLQ) </a:t>
            </a:r>
            <a:br>
              <a:rPr sz="1800"/>
            </a:b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Part of descending colon</a:t>
            </a:r>
            <a:br>
              <a:rPr sz="1800"/>
            </a:b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Sigmoid colon </a:t>
            </a:r>
            <a:br>
              <a:rPr sz="1800"/>
            </a:b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Left ovary and tube </a:t>
            </a:r>
            <a:br>
              <a:rPr sz="1800"/>
            </a:b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Left ureter</a:t>
            </a:r>
            <a:br>
              <a:rPr sz="1800"/>
            </a:b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Left spermatic cord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9aaf2"/>
                </a:solidFill>
                <a:latin typeface="Constantia"/>
              </a:rPr>
              <a:t>MIDLINE </a:t>
            </a:r>
            <a:br>
              <a:rPr sz="1800"/>
            </a:b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Aorta </a:t>
            </a:r>
            <a:br>
              <a:rPr sz="1800"/>
            </a:b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Uterus (if enlarged) </a:t>
            </a:r>
            <a:br>
              <a:rPr sz="1800"/>
            </a:b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Bladder (if distended) </a:t>
            </a:r>
            <a:br>
              <a:rPr sz="45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52880" y="685440"/>
            <a:ext cx="4191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aaf2"/>
                </a:solidFill>
                <a:latin typeface="Constantia"/>
              </a:rPr>
              <a:t>RIGHT UPPER QUADRANT (RUQ 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Liver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Gallbladder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Duodenum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Head of pancrea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Right kidney and adrenal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Hepatic flexure of col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Part of ascending and transverse col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aaf2"/>
                </a:solidFill>
                <a:latin typeface="Constantia"/>
              </a:rPr>
              <a:t>LEFT UPPER QUADRANT (LUQ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Stomach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Splee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Left lobe of li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Body of pancrea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Left kidney and adre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Splenic flexure of col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Part of transverse and descending col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6095880" y="6488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aaf2"/>
                </a:solidFill>
                <a:latin typeface="Constantia"/>
              </a:rPr>
              <a:t>University of Pittsburg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ppendicit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mptoms: acute abdominal pain moving to lower right abdomen, nausea, vomiting, diarrhea, low-grade fe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Appendix"/>
          <p:cNvPicPr/>
          <p:nvPr/>
        </p:nvPicPr>
        <p:blipFill>
          <a:blip r:embed="rId2"/>
          <a:stretch/>
        </p:blipFill>
        <p:spPr>
          <a:xfrm>
            <a:off x="4952880" y="342900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ctopic Pregnan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240" y="2057040"/>
            <a:ext cx="5715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Consider due to unidentified pelvic dise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aaf2"/>
                </a:solidFill>
                <a:latin typeface="Constantia"/>
              </a:rPr>
              <a:t>Rule out due to no reported recent intercourse and no unusual pregnancy shown by ultrasou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http://rds.yahoo.com/_ylt=A0WTefehi5tHn.oAFWGjzbkF/SIG=12qtnj3bl/EXP=1201462561/**http%3A/www.kelsofamily.net/~sewing/assets/images/ectopic_pregnancy.jpg"/>
          <p:cNvPicPr/>
          <p:nvPr/>
        </p:nvPicPr>
        <p:blipFill>
          <a:blip r:embed="rId2"/>
          <a:stretch/>
        </p:blipFill>
        <p:spPr>
          <a:xfrm>
            <a:off x="5334120" y="3852720"/>
            <a:ext cx="350496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lvic Ex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2280" y="1934640"/>
            <a:ext cx="60962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External examination of vul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Internal examination/palpation of vagina and cervi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Pap sme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Transvaginal palpation of uterus and ov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aaf2"/>
                </a:solidFill>
                <a:latin typeface="Constantia"/>
              </a:rPr>
              <a:t>Retrovaginal exam: insertion of index finger into vagina and another finger into rectum, assess for uterus and ovar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b5395"/>
                </a:solidFill>
                <a:latin typeface="Constantia"/>
              </a:rPr>
              <a:t>On pelvic exam, external genitalia was normal and uterus was palpable and normal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vaginal-rectal exam"/>
          <p:cNvPicPr/>
          <p:nvPr/>
        </p:nvPicPr>
        <p:blipFill>
          <a:blip r:embed="rId2"/>
          <a:stretch/>
        </p:blipFill>
        <p:spPr>
          <a:xfrm>
            <a:off x="5867280" y="838080"/>
            <a:ext cx="2857680" cy="3219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3124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1:37:31Z</dcterms:created>
  <dc:creator>Dana Foradori</dc:creator>
  <dc:description/>
  <dc:language>en-US</dc:language>
  <cp:lastModifiedBy>Sobia Raja</cp:lastModifiedBy>
  <dcterms:modified xsi:type="dcterms:W3CDTF">2008-01-28T17:26:03Z</dcterms:modified>
  <cp:revision>41</cp:revision>
  <dc:subject/>
  <dc:title>Case 5</dc:title>
</cp:coreProperties>
</file>